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9000-C7BE-4AA7-B3F4-85671489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749-6C85-41AB-A680-A3889702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409A-53CE-495E-9C4D-61CC1B79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E542-20F1-498E-8E4F-56434448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961-371F-46C6-B33F-9F41AE55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B86-B220-4AD4-BB5B-9B3A39B36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EE60-3447-4C71-BF7A-3BA53091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CA3-FCCA-4D4A-ABE0-2FB202564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217-DCA5-4D00-89DC-3E057D54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E9EB-E5D4-4B51-9977-86517CEC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D10-C856-48AE-ACC0-F1BA69C2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EAC-2A9E-40F5-9808-EBB1AB4A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57A9-425B-48C9-A79C-8DBBD537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3CCB-85D8-45E9-BBF1-C327A5C4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3E7-5B5A-4C5A-8F11-10C1BB44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DFC-10AE-40CA-B6A1-AEA05520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D25A-231B-4608-B03C-81B9288DB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89E-020D-4CED-A8C0-6F33C511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ABA-6638-4DA1-BFD9-3280359F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1262-0085-49FA-BDF6-1F975AE9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7557-6B30-47ED-995D-737D6643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C844-3C86-41B9-8D2F-76618E07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07DF-DA15-4791-916E-8DA4DBFF5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61F4-D421-482E-88B9-32382F4D5E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22B8-B29F-4EC4-9991-5996B0E302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9C7D-A5C2-4DA1-A7EA-C109174993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BD3B-64A3-40AD-B145-5FB8C324F5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4FFF-94E6-4D33-BA0C-24BFD3FAA92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2C17-CBF9-439F-AAF7-4D1501D98BC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89F0-0E97-4126-8BFA-BA8922CA9A3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15C1-B44E-4196-A0AF-2A08F9CD040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C51A-A309-41A4-ABBD-4319E6AB3EB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07B9-2ABF-44A2-AE4C-A827EAE876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1EB3-F212-436A-94C3-72AE8F42A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361E-CC0E-4A43-A89C-4375E7DC8D5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492A-7E51-426A-A34C-07C8C7FF240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2882-82A7-4EED-8F77-5297310D21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0888-023F-4FD0-AC30-324282F6749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E73C-33D7-4ACE-A1C7-4FD78016A36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8D7DA-354F-4DF1-8121-C68B1405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18693-23A2-4774-AFB0-1005AE12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4ACB0-87A3-42CA-86F2-DE6ECDB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2BD28-D488-4567-A136-22F55345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9EDA-C029-4977-A4F6-5AC3A5B9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93D4-4E08-4B07-9A28-A4C57449CA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D4E47-5706-4AB1-B243-D74B6B0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EDDC7-7247-4C15-9220-F93F7700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4843B-A6D9-41D1-842C-B0373651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B0465-B201-4A9E-B363-CA90B686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60A17-DEF6-4A89-AF5E-90047E13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EFF3F-3DBA-4CFB-9DF8-68E0A285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248AC-B1A1-4341-86B1-AB47C2EE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13EF2-155D-4804-8DE3-1450BA8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DB9CF-D8BB-42DC-B8E2-DD14A73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42DC0-6D15-4C1D-B139-C77DFEA3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F80DE-5B50-4893-97EA-D43D9EE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F3D64-DC5B-409B-9207-EA83568F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5EA47-F131-4D97-B9FA-0E8A77C8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B53DE-8573-4BBC-88EE-42B1DD45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E91DC-014B-42D4-9B97-E806BB3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17AED-B9BC-40E2-AD8C-8C0F574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A1A30-EEF0-49EA-9AB6-1CEB6A49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DDB4-ADC1-4F30-8489-7BF02CCC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3328C-89E6-4348-9BF6-447F82EA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E6D3E-EC7E-4594-A700-65D15E5C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31284-40EA-4F93-A256-D6BB213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1885D-0352-4C91-9802-1915078A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3A6E-E3E8-440F-97EE-4401443925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967AD-E270-4E4A-B0BB-9FE25C1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D2B4F-B894-47F2-805D-FA841DE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11338-746F-4601-984E-C4DEA290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10168-14D1-433D-8F17-1870572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A39E2-614D-4495-8438-DFCB047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37998-60EB-475B-92E1-04D2FA8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601B5-40E2-4B86-8B23-F4A2F3DE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03E42-941C-47D8-8CBF-4E68E22E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3A520-4A58-4937-BB70-ABD147BA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C9D18-28C8-4AFC-B0B3-79939124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A9DA-7125-4D66-A89A-C8145AF8BF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E0B3F-C435-47C1-A65E-C5FEDB0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8D07D-0DC0-4EA4-8E2B-1F01377F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3387A-913B-4803-9E36-B4B07E4F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5381D-D954-4EE6-8034-F763D42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CCEA0-9511-4177-9C26-B214A4CC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157D3-C462-4225-86E8-D8F2699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F1ADA-990E-4CD3-9D41-1CDBD8F0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C20C1-B403-4F37-8598-4EBF49EC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E04A5-8729-45B7-B20F-7D4E2C68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78478-ED50-40FF-9EDF-9F338A93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E90B-C586-4F45-BD7E-D21F9A68F0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2FA17-739A-4FDD-B39C-6B78F94E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661F4-24E3-4BC7-8D4A-AC9599D5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7788B-E486-41E3-B63C-9906987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0DFAD-C9B7-45F1-A5D0-DC8DF61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E1B2F-8E2C-49AF-BD1B-81C463D0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D86BB-BF6B-4614-AAA6-29227F6E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55690-6A39-4824-AC36-DFAE9FEE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4F63B-57F0-4219-9C5F-42780F4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C0BBF-6511-405C-9F55-2E5E826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65926-BE89-4ACC-B4DA-8F110D6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5D4C-9E78-401F-BCBD-EAD6EA2CE2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F24EB-2552-49B2-ADE2-6565DFC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CF192-79E5-4BCB-9FC3-5B89988E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4453F-6611-4432-86DA-8DB482A2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DBD0F-6639-45B3-B14D-A7B2E4E9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4FC19-C382-4DA6-B290-98AD4EA3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25964-7BA5-47D8-B89D-94EB861D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AFD87-44E6-49AB-B2F1-26169094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44326-A909-4BE1-8E7E-0116CA0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0EC53-1A6F-4C84-AB88-722FAE7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B9EC0-5E3D-4957-9028-33A38D0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0346-0E26-4477-9F3E-F1E87FF436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EA740-8C69-463C-8FB3-F6700F2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CEFCD-CF0E-4E8C-841D-5537887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96CB1-B7AD-4A91-935C-93B39338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B6BAC-F882-4DFD-A742-04E06B4B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A1987-FFDD-4E7B-B1B0-3CA1E455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912B-F9B3-4858-96D7-81BFCDC2CB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662-9F1C-4194-B351-C842979211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ABE-19A5-4691-A6B1-D35BDFF2A6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3376-E2C0-4620-ADF6-D306BA77F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ECA-F748-47C9-8134-467F08A38C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47CA-5AE7-4E27-BB3A-B1C414368F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717C-0A29-429C-AC15-4EBFCA9A2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47E-F575-405C-A949-FD67051FC2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FED-AD2F-41BB-ABED-D608F069D0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Rectangle 5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 txBox="1"/>
          <p:nvPr/>
        </p:nvSpPr>
        <p:spPr>
          <a:xfrm>
            <a:off x="4572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don’t use voucher checks or if you don’t print checks from QuickBooks, you can still print paystubs for your employees on blank pap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27" name="Picture 4" descr="C:\Users\DPEMBR~1\AppData\Local\Temp\SNAGHTML11057b02.PNG"/>
          <p:cNvPicPr/>
          <p:nvPr/>
        </p:nvPicPr>
        <p:blipFill>
          <a:blip r:embed="rId2"/>
          <a:stretch/>
        </p:blipFill>
        <p:spPr>
          <a:xfrm>
            <a:off x="4038480" y="1752480"/>
            <a:ext cx="4991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haven’t printed the paycheck, you can edit the paycheck directly in the regis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mployees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u,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dit/Void Payche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the from and to dates and then select the paycheck from the list to ed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edit the items on the paycheck, cl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ycheck Detai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Picture 4" descr="C:\Users\DPEMBR~1\AppData\Local\Temp\SNAGHTML131bb925.PNG"/>
          <p:cNvPicPr/>
          <p:nvPr/>
        </p:nvPicPr>
        <p:blipFill>
          <a:blip r:embed="rId1"/>
          <a:stretch/>
        </p:blipFill>
        <p:spPr>
          <a:xfrm>
            <a:off x="800280" y="1457280"/>
            <a:ext cx="7543800" cy="5095800"/>
          </a:xfrm>
          <a:prstGeom prst="rect">
            <a:avLst/>
          </a:prstGeom>
          <a:ln w="0">
            <a:noFill/>
          </a:ln>
        </p:spPr>
      </p:pic>
      <p:pic>
        <p:nvPicPr>
          <p:cNvPr id="1231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2" name="Oval 8"/>
          <p:cNvSpPr/>
          <p:nvPr/>
        </p:nvSpPr>
        <p:spPr>
          <a:xfrm>
            <a:off x="3886200" y="2819520"/>
            <a:ext cx="426708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several reports that you can use to analyze your payrol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yroll Summary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les Rep Commissio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yroll Liabilities Re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 txBox="1"/>
          <p:nvPr/>
        </p:nvSpPr>
        <p:spPr>
          <a:xfrm>
            <a:off x="456840" y="167652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ws columns for each employee, their hours and rates of p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7" name="Picture 4" descr="C:\Users\DPEMBR~1\AppData\Local\Temp\SNAGHTML132274a7.PNG"/>
          <p:cNvPicPr/>
          <p:nvPr/>
        </p:nvPicPr>
        <p:blipFill>
          <a:blip r:embed="rId2"/>
          <a:stretch/>
        </p:blipFill>
        <p:spPr>
          <a:xfrm>
            <a:off x="4114800" y="1295280"/>
            <a:ext cx="38862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s to calculate the commissions d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report requires you to first tag each sale with the employee who gets cred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0" name="Picture 4" descr="C:\Users\DPEMBR~1\AppData\Local\Temp\SNAGHTML79234a.PNG"/>
          <p:cNvPicPr/>
          <p:nvPr/>
        </p:nvPicPr>
        <p:blipFill>
          <a:blip r:embed="rId2"/>
          <a:stretch/>
        </p:blipFill>
        <p:spPr>
          <a:xfrm>
            <a:off x="1600200" y="3276720"/>
            <a:ext cx="59436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s the status of your payroll liabilities by Payroll I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3" name="Picture 4" descr="C:\Users\DPEMBR~1\AppData\Local\Temp\SNAGHTML1353d3d7.PNG"/>
          <p:cNvPicPr/>
          <p:nvPr/>
        </p:nvPicPr>
        <p:blipFill>
          <a:blip r:embed="rId2"/>
          <a:stretch/>
        </p:blipFill>
        <p:spPr>
          <a:xfrm>
            <a:off x="533520" y="2895480"/>
            <a:ext cx="807696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pgrade your tax tables before processing Forms 941, 940 or W-2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ay Liabiliti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window to create your tax payments prior to creating your Quarterly and Annual Payroll Form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941 will use these payments for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Deposits ma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alcul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940 form computes your Federal Unemployment tax based on the 940 contributions, your State Unemployment liabilities, and payments made throughout the year (if applicabl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l of the payroll tax forms calculate automatically using the information on Paychecks and Payroll Liability Pay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534520" cy="1573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4" descr="C:\Users\DPEMBR~1\AppData\Local\Temp\SNAGHTML19bd3317.PNG"/>
          <p:cNvPicPr/>
          <p:nvPr/>
        </p:nvPicPr>
        <p:blipFill>
          <a:blip r:embed="rId2"/>
          <a:stretch/>
        </p:blipFill>
        <p:spPr>
          <a:xfrm>
            <a:off x="263520" y="2286000"/>
            <a:ext cx="3699000" cy="24494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5" descr="C:\Users\DPEMBR~1\AppData\Local\Temp\SNAGHTML19be0d11.PNG"/>
          <p:cNvPicPr/>
          <p:nvPr/>
        </p:nvPicPr>
        <p:blipFill>
          <a:blip r:embed="rId3"/>
          <a:stretch/>
        </p:blipFill>
        <p:spPr>
          <a:xfrm>
            <a:off x="4419720" y="1676520"/>
            <a:ext cx="43988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prepares Form 940 used to report the annual FUTA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cess for creating Form 940 is nearly the same as for Form 94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RS requires that you pay Form 940 taxes separately than the Form 941 tax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’ll also print Form 940 on blank paper suitable for filing with the I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the Employee Center to view previous payroll activ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pdate your Payroll Tax Tab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checks and override default calcula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dit, Void, and Delete Pay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just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roll Rep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are Payroll Tax Form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2" name=""/>
          <p:cNvSpPr txBox="1"/>
          <p:nvPr/>
        </p:nvSpPr>
        <p:spPr>
          <a:xfrm>
            <a:off x="45720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rom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ome P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ocess Payroll Fo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nnua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rm W-2 – Wage Tax Statemen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hoose a form you want to use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QuickBooks displays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ocess W-2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ndow, select 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On the Process W-2s window, select all of the employees you want to review and then click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Review W-2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fter you reviewing the W-2s, 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 W-2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n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ocess W-2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window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the Employee Center to view previous payroll activ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pdate your Payroll Tax Tab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checks and override default calcula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dit, Void, and Delete Pay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just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roll Rep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are Payroll Tax For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Payda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view the previous payroll activity in the Employee Cen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at your tax tables are current and update them if necessa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, review, and correct (if necessary) paychec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t paychecks and pays stub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Tax Deposit Due Dat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, review, and correct (if necessary) liability pay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t liability payment chec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8080" cy="1170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Quarte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e accuracy of all payroll transactions for the previous quar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reports for the previous quarter and year-to-d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tax returns (Federal For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Januar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e accuracy of all payroll transactions for the entire previous 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reports for the previous quarter and year-to-d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tax returns (Federal Form 941, 940, and State Quarterly and Yearly Retur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3" descr="C:\Users\DPEMBR~1\AppData\Local\Temp\SNAGHTML1e5041.PNG"/>
          <p:cNvPicPr/>
          <p:nvPr/>
        </p:nvPicPr>
        <p:blipFill>
          <a:blip r:embed="rId2"/>
          <a:stretch/>
        </p:blipFill>
        <p:spPr>
          <a:xfrm>
            <a:off x="1190520" y="1719360"/>
            <a:ext cx="67629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ayroll Tax Tabl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clude the tax rates necessary to calculate an employee’s payche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s the taxes withheld from paycheck and the company payroll tax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3" descr="C:\Users\DPEMBR~1\AppData\Local\Temp\SNAGHTML3c0760.PNG"/>
          <p:cNvPicPr/>
          <p:nvPr/>
        </p:nvPicPr>
        <p:blipFill>
          <a:blip r:embed="rId2"/>
          <a:stretch/>
        </p:blipFill>
        <p:spPr>
          <a:xfrm>
            <a:off x="974880" y="1523880"/>
            <a:ext cx="71942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Rectangle 2" descr=""/>
          <p:cNvPicPr/>
          <p:nvPr/>
        </p:nvPicPr>
        <p:blipFill>
          <a:blip r:embed="rId1"/>
          <a:stretch/>
        </p:blipFill>
        <p:spPr>
          <a:xfrm>
            <a:off x="-255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3" descr="C:\Users\DPEMBR~1\AppData\Local\Temp\SNAGHTML10e43ae6.PNG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Rectangle 2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Voucher check style so that QuickBooks can print the pay stub information on the voucher portion of the chec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24" name="Picture 4" descr="C:\Users\DPEMBR~1\AppData\Local\Temp\SNAGHTML11036e45.PNG"/>
          <p:cNvPicPr/>
          <p:nvPr/>
        </p:nvPicPr>
        <p:blipFill>
          <a:blip r:embed="rId2"/>
          <a:stretch/>
        </p:blipFill>
        <p:spPr>
          <a:xfrm>
            <a:off x="3962520" y="1752480"/>
            <a:ext cx="5079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9:49:09Z</dcterms:created>
  <dc:creator>The Sleeter Group, Inc.</dc:creator>
  <dc:description/>
  <dc:language>en-US</dc:language>
  <cp:lastModifiedBy>Deborah Pembrook</cp:lastModifiedBy>
  <dcterms:modified xsi:type="dcterms:W3CDTF">2011-12-09T05:46:00Z</dcterms:modified>
  <cp:revision>168</cp:revision>
  <dc:subject/>
  <dc:title>Chapter 6 Payroll Processing </dc:title>
</cp:coreProperties>
</file>